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150B-FA99-438C-A62B-BC7E5169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4391-B6D9-43EB-9CC0-16394526A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7DFC-6BA4-4E7F-9E51-282ECE56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C4B6-29F3-4835-9616-634891D33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D438-96FD-437A-A930-4A82692FC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BD2E-818F-47DD-AB27-5CA012F0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76C-FBA3-4D15-9AD3-EFCCAFC9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DBC-67DD-4E21-8363-991B9C3E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4F6-EF39-4BBE-98D7-95BCFC36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479-D208-46FA-B355-6F8E80C1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4FE-2BD8-44BD-AE1F-0941912B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367-30AB-4047-8A6D-A83E9377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9E6-0E01-4C94-843B-C3927B28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EEE-B209-4CBE-AE91-675F0129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524-2AD4-4614-86DD-BC7A96FD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F28-6B9A-4B81-A94B-2BBDA12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803-7CDC-4FFD-A696-AF48FDBD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80C-FC17-4E42-86AC-E4DCE38B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5855-3861-4160-8BFD-97A3F1D1F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952880" y="2743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a tu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0" y="3886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7242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876920" y="46483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81480" y="46483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anks to Valerie 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hawksbill_small"/>
          <p:cNvPicPr/>
          <p:nvPr/>
        </p:nvPicPr>
        <p:blipFill>
          <a:blip r:embed="rId1"/>
          <a:stretch/>
        </p:blipFill>
        <p:spPr>
          <a:xfrm>
            <a:off x="609480" y="2666880"/>
            <a:ext cx="3962520" cy="3105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adge"/>
          <p:cNvPicPr/>
          <p:nvPr/>
        </p:nvPicPr>
        <p:blipFill>
          <a:blip r:embed="rId2"/>
          <a:stretch/>
        </p:blipFill>
        <p:spPr>
          <a:xfrm>
            <a:off x="2819520" y="380880"/>
            <a:ext cx="4267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underwaterview-689642-g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-8534520" y="3049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948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In warm ocean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343400" y="3200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the sea turtle sw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066680" y="13716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earches for a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952880" y="213372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omes up for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09680" y="3352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 dives bac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4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3200400" y="12193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cff"/>
                </a:solidFill>
                <a:latin typeface="Arial"/>
              </a:rPr>
              <a:t>Finds a soft sandy b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838080" y="24382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digs a 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83400" y="3429000"/>
            <a:ext cx="37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lays a batch of e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535680" y="4952880"/>
            <a:ext cx="37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and covers them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4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49520" y="2666880"/>
            <a:ext cx="69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Slowly crawls back into the deep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8:46:09Z</dcterms:created>
  <dc:creator>BCS BHS</dc:creator>
  <dc:description/>
  <dc:language>en-US</dc:language>
  <cp:lastModifiedBy>Linds</cp:lastModifiedBy>
  <dcterms:modified xsi:type="dcterms:W3CDTF">2012-09-13T21:14:17Z</dcterms:modified>
  <cp:revision>19</cp:revision>
  <dc:subject/>
  <dc:title>PowerPoint Presentation</dc:title>
</cp:coreProperties>
</file>