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B74-3E49-438E-BD42-DB47059C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0EA0-A316-44F6-A726-5C326BC69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00B2-CE3F-4A5A-8A76-5C57D70F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4D60-68DA-4A1D-A2B6-ADDE5651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912F-D763-4B86-AD8E-8343DE3E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ED81-44EF-4C40-B5F5-C0D372AD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C69-0CB1-4696-B4A9-A59358E0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ACB-6219-4203-A724-BB97142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338-6983-4EAA-8024-83027F7C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0F7-414B-4FD3-9F1B-B3D314CB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335-A07F-499C-9B3F-38E6D7D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5CD-FCB5-4E91-B032-B7D6231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AC8-3866-4E6E-999A-626D6D1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1EB-8AE3-418A-BCBD-58ED538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257-BDC4-40AB-BFD6-734A82EC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713-67E2-4058-A82E-18E7A97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5F8-805A-423B-87FD-CB0DA38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225-5C5F-469D-8BC3-E753217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BE6-AAD3-4B54-8B23-6E9F9EA5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952880" y="2743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0" y="3886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24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876920" y="4648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81480" y="4648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anks to Valerie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awksbill_small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dge"/>
          <p:cNvPicPr/>
          <p:nvPr/>
        </p:nvPicPr>
        <p:blipFill>
          <a:blip r:embed="rId2"/>
          <a:stretch/>
        </p:blipFill>
        <p:spPr>
          <a:xfrm>
            <a:off x="2819520" y="380880"/>
            <a:ext cx="426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derwaterview-689642-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853452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n warm ocean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3200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sea turtle sw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3716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earches for a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952880" y="2133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mes up f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96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 dives ba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00400" y="1219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cff"/>
                </a:solidFill>
                <a:latin typeface="Arial"/>
              </a:rPr>
              <a:t>Finds a soft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gs a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83400" y="342900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ys a batch of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35680" y="49528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overs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4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49520" y="2666880"/>
            <a:ext cx="69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lowly crawls back into the deep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46:09Z</dcterms:created>
  <dc:creator>BCS BHS</dc:creator>
  <dc:description/>
  <dc:language>en-US</dc:language>
  <cp:lastModifiedBy>Linds</cp:lastModifiedBy>
  <dcterms:modified xsi:type="dcterms:W3CDTF">2012-09-13T21:14:17Z</dcterms:modified>
  <cp:revision>19</cp:revision>
  <dc:subject/>
  <dc:title>PowerPoint Presentation</dc:title>
</cp:coreProperties>
</file>