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24A5-B8DF-4C8D-980E-367DE22A8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386B-16CE-4BE7-9356-D82DA9146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F87B-0C0D-434B-A043-C7E140764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30A3-8B58-4338-AC57-93E948735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87CC-9F97-477D-AB8C-64E5AA32F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CE14-B380-4C29-95D9-DAAB6EB5B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9A8E-641F-4C96-9C67-B4BA274C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BAE-F0FA-4EBC-97D2-9A13C68F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170-1FAB-42A2-ACC0-346611DC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D80-BB8B-41AE-818C-1FA7EFD8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B4F6-130B-4E40-9E0B-72C8AE2E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6BB-D693-4469-951F-E1B8BF94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B04-7F19-4120-B468-9022B865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66C7-AB8B-4CFD-93F0-D2DDFB21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773-D1F9-4FAB-885F-01410DED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46EC-6F26-4DB0-AC81-19D3B51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F0F5-BEBD-47D8-8A8D-701F033D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662-1E32-42B3-9B02-6848C877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B9B8-2AC3-4D2F-BD6F-CDD1DC21B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952880" y="2743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 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0" y="3886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242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876920" y="4648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81480" y="4648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anks to Valerie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awksbill_small"/>
          <p:cNvPicPr/>
          <p:nvPr/>
        </p:nvPicPr>
        <p:blipFill>
          <a:blip r:embed="rId1"/>
          <a:stretch/>
        </p:blipFill>
        <p:spPr>
          <a:xfrm>
            <a:off x="609480" y="2666880"/>
            <a:ext cx="3962520" cy="31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dge"/>
          <p:cNvPicPr/>
          <p:nvPr/>
        </p:nvPicPr>
        <p:blipFill>
          <a:blip r:embed="rId2"/>
          <a:stretch/>
        </p:blipFill>
        <p:spPr>
          <a:xfrm>
            <a:off x="2819520" y="380880"/>
            <a:ext cx="4267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derwaterview-689642-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853452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n warm ocean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3200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sea turtle sw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3716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earches for a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952880" y="2133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mes up for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09680" y="3352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 dives bac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00400" y="1219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cff"/>
                </a:solidFill>
                <a:latin typeface="Arial"/>
              </a:rPr>
              <a:t>Finds a soft sandy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igs a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83400" y="342900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ys a batch of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35680" y="495288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covers the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4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49520" y="2666880"/>
            <a:ext cx="69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lowly crawls back into the deep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8:46:09Z</dcterms:created>
  <dc:creator>BCS BHS</dc:creator>
  <dc:description/>
  <dc:language>en-US</dc:language>
  <cp:lastModifiedBy>Linds</cp:lastModifiedBy>
  <dcterms:modified xsi:type="dcterms:W3CDTF">2012-09-13T21:14:17Z</dcterms:modified>
  <cp:revision>19</cp:revision>
  <dc:subject/>
  <dc:title>PowerPoint Presentation</dc:title>
</cp:coreProperties>
</file>