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161C-0DAE-4B65-AFE1-5B42ECF53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38CE-5B27-4DDF-A814-D7DCCC4BB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6C05-D297-4206-B593-B0EEACDF1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A1A8-8A21-48EC-8FDC-F8B08056F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36DD-C1F9-4215-9420-774E9D924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BC30-036D-4900-832F-D2AF76C89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78B1-9193-46F8-9EC1-E2B55DD3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4F6-D3FD-4EBC-8F6A-6A51DAD4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BAF-02C3-45A1-9671-26E0BEC0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90E-299A-4544-98F4-9A6DE2AF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26D-C5E1-4728-A6C5-DA135B67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56C-23DA-4C3B-B608-A312051A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293-ED87-46E8-BA3D-45511B04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DCDA-21B0-4358-B9B3-E5F19338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F75-EEC2-4224-BE4A-A84BC36C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ED8-6DAB-4B3F-9426-E2B669A4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876-3E44-4402-B5F7-4243C5B7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ED1-F00C-4D2E-B982-DCBCF28F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9B5F-EF2E-4917-8C46-10F40689E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952880" y="27432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 tur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0" y="3886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724280" y="3733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876920" y="4648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181480" y="46483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anks to Valerie W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hawksbill_small"/>
          <p:cNvPicPr/>
          <p:nvPr/>
        </p:nvPicPr>
        <p:blipFill>
          <a:blip r:embed="rId1"/>
          <a:stretch/>
        </p:blipFill>
        <p:spPr>
          <a:xfrm>
            <a:off x="609480" y="2666880"/>
            <a:ext cx="3962520" cy="3105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badge"/>
          <p:cNvPicPr/>
          <p:nvPr/>
        </p:nvPicPr>
        <p:blipFill>
          <a:blip r:embed="rId2"/>
          <a:stretch/>
        </p:blipFill>
        <p:spPr>
          <a:xfrm>
            <a:off x="2819520" y="380880"/>
            <a:ext cx="4267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underwaterview-689642-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-8534520" y="3049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09480" y="1447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In warm ocean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343400" y="32004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sea turtle sw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66680" y="13716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earches for a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952880" y="2133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omes up for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209680" y="3352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nd  dives back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4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200400" y="12193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cff"/>
                </a:solidFill>
                <a:latin typeface="Arial"/>
              </a:rPr>
              <a:t>Finds a soft sandy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838080" y="24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digs a 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83400" y="342900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ys a batch of 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535680" y="4952880"/>
            <a:ext cx="37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nd covers the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4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749520" y="2666880"/>
            <a:ext cx="69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lowly crawls back into the deep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8:46:09Z</dcterms:created>
  <dc:creator>BCS BHS</dc:creator>
  <dc:description/>
  <dc:language>en-US</dc:language>
  <cp:lastModifiedBy>Linds</cp:lastModifiedBy>
  <dcterms:modified xsi:type="dcterms:W3CDTF">2012-09-13T21:14:17Z</dcterms:modified>
  <cp:revision>19</cp:revision>
  <dc:subject/>
  <dc:title>PowerPoint Presentation</dc:title>
</cp:coreProperties>
</file>